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DA1-09FB-4757-A6B4-17B4C3DE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109-C3CF-4F0F-9389-84339371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168-A903-45EE-81A1-3231968E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3EC-8B5C-44CF-A342-EDE4959B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D643-31FE-462E-9C67-71801A4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2D32-60EE-4495-9A65-98CB75F0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4CFF-9735-4A13-95ED-735328A4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A33C-689D-431E-8B5B-680A148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8E2-4A88-418B-8F91-CA8F8275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AFC0-CA20-488C-8C6D-CBF20ECD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AEC6-E263-48F0-89D2-61CCF13B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225-67F2-4FC9-83E0-428C054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719-151B-48B4-801E-4E0D872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30C3-7E58-496E-9000-C348F3E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5FC9-7D8A-4044-B291-0D75EA6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C33D-820E-4137-BBF4-8F67989E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AD2-8FA7-4B7A-957C-DD12D4FE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A7C-7F09-4D6F-A38B-29FE3B8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213-D4DB-4E7C-B1E4-0745402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684-C9B5-41B3-AC74-0381897C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59F-DA37-476D-A958-F09BB4A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BB0-74A6-4A7A-9DC6-BBD61042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D28-381E-475B-B6A3-A3423B9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2BA-F5CD-419A-A650-59E7DD4E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840E-F626-4FFC-AED0-253DA1140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65BC-1EEA-49F0-A9AA-8AF5769B1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0234759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HH00446_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10" descr="NA00002_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SO00085_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2" descr="HH02192_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HH00446_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6" descr="SO00085_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NA00002_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H02192_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HH00446_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DD00864_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9" descr="SO00085_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NA00002_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HH02192_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Owner</cp:lastModifiedBy>
  <dcterms:modified xsi:type="dcterms:W3CDTF">2013-04-23T09:50:42Z</dcterms:modified>
  <cp:revision>8</cp:revision>
  <dc:subject/>
  <dc:title>PLANTS</dc:title>
</cp:coreProperties>
</file>